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DDC-1C98-43BB-8A77-31E37B47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88E-AC9F-41BD-BA53-660CDC9A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C66-8166-4035-BD13-FD8D81F8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896-1D71-4D47-9483-0CC82AD4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092-570F-4E2F-9E11-653A9F59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DEB-B92A-47AC-8414-21F3B9A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7FF-AAA7-4B22-B19F-0981D527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9AB-34F2-48FD-9D9A-3AA5A87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FD1-BBD1-4773-97EA-1F244FB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60C-E899-4D94-9AD7-9EA5815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14C-09C1-4B70-8D32-8A0FF42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EC2-7796-4528-BE2D-4A22522F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D6D-B1FD-4AB4-AC7D-1DD6CC111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二零一零年三月十六日</a:t>
            </a:r>
            <a:br>
              <a:rPr sz="4400"/>
            </a:b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星期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40384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主題</a:t>
            </a: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:</a:t>
            </a: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過馬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71800" y="152280"/>
            <a:ext cx="2743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停一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趕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紅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綠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紅綠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亮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625400" cy="188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5943600" y="2133720"/>
            <a:ext cx="2057400" cy="169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1295280" y="2590920"/>
            <a:ext cx="1413000" cy="162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6172200" y="4572000"/>
            <a:ext cx="1646280" cy="1895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1066680" y="4572000"/>
            <a:ext cx="24386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098" descr="M:\lesson 6\a.jpg"/>
          <p:cNvPicPr/>
          <p:nvPr/>
        </p:nvPicPr>
        <p:blipFill>
          <a:blip r:embed="rId1"/>
          <a:stretch/>
        </p:blipFill>
        <p:spPr>
          <a:xfrm>
            <a:off x="1104840" y="546120"/>
            <a:ext cx="69343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造句練習</a:t>
            </a:r>
            <a:r>
              <a:rPr b="1" lang="en-US" sz="32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前面有紅燈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要停一停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.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綠燈可以走了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趕快過馬路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.</a:t>
            </a: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520" y="29714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dependent Practice phrase:(out door a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指揮交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紅燈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停一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綠燈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趕快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黃燈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要小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我們趕快過馬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DFPBiaoKaiW5_HanPinIn1LU-AZ"/>
              </a:rPr>
              <a:t>Cultur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DFPBiaoKaiW5_HanPinIn1LU-AZ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停一停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看一看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走一走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         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寫一寫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唱一唱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跳一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24382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DFPBiaoKaiW5_HanPinIn1LU-AZ"/>
              </a:rPr>
              <a:t>Closure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  <a:ea typeface="DFPBiaoKaiW5_HanPinIn1LU-AZ"/>
              </a:rPr>
              <a:t>問一問小朋友有沒有其它關於馬路上生詞他們還想知道的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  <a:ea typeface="DFPBiaoKaiW5_HanPinIn1LU-AZ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09680" y="5335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hallenge p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41560" y="1828800"/>
            <a:ext cx="39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交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āo t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572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0:28Z</dcterms:created>
  <dc:creator>Josie</dc:creator>
  <dc:description/>
  <dc:language>en-US</dc:language>
  <cp:lastModifiedBy>Monica</cp:lastModifiedBy>
  <dcterms:modified xsi:type="dcterms:W3CDTF">2010-03-12T18:32:08Z</dcterms:modified>
  <cp:revision>59</cp:revision>
  <dc:subject/>
  <dc:title>cross road 2</dc:title>
</cp:coreProperties>
</file>